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790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42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938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790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2642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93880" y="274320"/>
            <a:ext cx="64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790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642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938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790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2642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93880" y="274320"/>
            <a:ext cx="64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790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2642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938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790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2642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93880" y="274320"/>
            <a:ext cx="64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790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642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938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790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642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893880" y="274320"/>
            <a:ext cx="64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93880" y="274320"/>
            <a:ext cx="64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790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64280" y="183204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938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790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264280" y="4305600"/>
            <a:ext cx="20808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05520" y="430560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9388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5520" y="1832040"/>
            <a:ext cx="315360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93880" y="4305600"/>
            <a:ext cx="6462720" cy="2258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9"/>
          <p:cNvSpPr/>
          <p:nvPr/>
        </p:nvSpPr>
        <p:spPr>
          <a:xfrm>
            <a:off x="5938920" y="3378240"/>
            <a:ext cx="720720" cy="1015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080" bIns="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Shape 10"/>
          <p:cNvSpPr/>
          <p:nvPr/>
        </p:nvSpPr>
        <p:spPr>
          <a:xfrm>
            <a:off x="6659640" y="3378240"/>
            <a:ext cx="722160" cy="1015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080" bIns="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1"/>
          <p:cNvSpPr/>
          <p:nvPr/>
        </p:nvSpPr>
        <p:spPr>
          <a:xfrm>
            <a:off x="0" y="3378240"/>
            <a:ext cx="722160" cy="1015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080" bIns="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hape 12"/>
          <p:cNvSpPr/>
          <p:nvPr/>
        </p:nvSpPr>
        <p:spPr>
          <a:xfrm>
            <a:off x="720720" y="3378240"/>
            <a:ext cx="5218200" cy="1015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080" bIns="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hape 30"/>
          <p:cNvSpPr/>
          <p:nvPr/>
        </p:nvSpPr>
        <p:spPr>
          <a:xfrm>
            <a:off x="7356600" y="6754680"/>
            <a:ext cx="893520" cy="1033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hape 31"/>
          <p:cNvSpPr/>
          <p:nvPr/>
        </p:nvSpPr>
        <p:spPr>
          <a:xfrm>
            <a:off x="8250120" y="6754680"/>
            <a:ext cx="893880" cy="1033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32"/>
          <p:cNvSpPr/>
          <p:nvPr/>
        </p:nvSpPr>
        <p:spPr>
          <a:xfrm>
            <a:off x="0" y="6754680"/>
            <a:ext cx="893880" cy="1033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hape 33"/>
          <p:cNvSpPr/>
          <p:nvPr/>
        </p:nvSpPr>
        <p:spPr>
          <a:xfrm>
            <a:off x="893880" y="6754680"/>
            <a:ext cx="6462720" cy="1033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hape 69"/>
          <p:cNvSpPr/>
          <p:nvPr/>
        </p:nvSpPr>
        <p:spPr>
          <a:xfrm>
            <a:off x="7356600" y="6754680"/>
            <a:ext cx="893520" cy="1033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hape 70"/>
          <p:cNvSpPr/>
          <p:nvPr/>
        </p:nvSpPr>
        <p:spPr>
          <a:xfrm>
            <a:off x="8250120" y="6754680"/>
            <a:ext cx="893880" cy="1033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hape 71"/>
          <p:cNvSpPr/>
          <p:nvPr/>
        </p:nvSpPr>
        <p:spPr>
          <a:xfrm>
            <a:off x="0" y="6754680"/>
            <a:ext cx="893880" cy="1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hape 72"/>
          <p:cNvSpPr/>
          <p:nvPr/>
        </p:nvSpPr>
        <p:spPr>
          <a:xfrm>
            <a:off x="893880" y="6754680"/>
            <a:ext cx="6462720" cy="1033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hape 53"/>
          <p:cNvSpPr/>
          <p:nvPr/>
        </p:nvSpPr>
        <p:spPr>
          <a:xfrm>
            <a:off x="7356600" y="6754680"/>
            <a:ext cx="893520" cy="103320"/>
          </a:xfrm>
          <a:prstGeom prst="rect">
            <a:avLst/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hape 54"/>
          <p:cNvSpPr/>
          <p:nvPr/>
        </p:nvSpPr>
        <p:spPr>
          <a:xfrm>
            <a:off x="8250120" y="6754680"/>
            <a:ext cx="893880" cy="103320"/>
          </a:xfrm>
          <a:prstGeom prst="rect">
            <a:avLst/>
          </a:prstGeom>
          <a:solidFill>
            <a:srgbClr val="f202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55"/>
          <p:cNvSpPr/>
          <p:nvPr/>
        </p:nvSpPr>
        <p:spPr>
          <a:xfrm>
            <a:off x="0" y="6754680"/>
            <a:ext cx="893880" cy="103320"/>
          </a:xfrm>
          <a:prstGeom prst="rect">
            <a:avLst/>
          </a:prstGeom>
          <a:solidFill>
            <a:srgbClr val="7ec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56"/>
          <p:cNvSpPr/>
          <p:nvPr/>
        </p:nvSpPr>
        <p:spPr>
          <a:xfrm>
            <a:off x="893880" y="6754680"/>
            <a:ext cx="6462720" cy="103320"/>
          </a:xfrm>
          <a:prstGeom prst="rect">
            <a:avLst/>
          </a:prstGeom>
          <a:solidFill>
            <a:srgbClr val="21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3880" y="1832040"/>
            <a:ext cx="6462720" cy="473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7680" y="1207800"/>
            <a:ext cx="6684840" cy="188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185c5"/>
                </a:solidFill>
                <a:latin typeface="Arial"/>
              </a:rPr>
              <a:t>О РАБОТАХ, ПРОВОДИМЫХ В РЕСПУБЛИКЕ МОЛДОВА В </a:t>
            </a:r>
            <a:br>
              <a:rPr sz="3200"/>
            </a:br>
            <a:r>
              <a:rPr b="0" i="1" lang="ru-RU" sz="3200" spc="-1" strike="noStrike">
                <a:solidFill>
                  <a:srgbClr val="2185c5"/>
                </a:solidFill>
                <a:latin typeface="Arial"/>
              </a:rPr>
              <a:t>ОБЛАСТИ СТАНДАР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77"/>
          <p:cNvSpPr/>
          <p:nvPr/>
        </p:nvSpPr>
        <p:spPr>
          <a:xfrm>
            <a:off x="3951360" y="4162320"/>
            <a:ext cx="668340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185c5"/>
                </a:solidFill>
                <a:latin typeface="Raleway"/>
              </a:rPr>
              <a:t>Лилиан БОСТАН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185c5"/>
                </a:solidFill>
                <a:latin typeface="Raleway"/>
              </a:rPr>
              <a:t>Заместитель директора Института Стандартизации Молдов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37680" y="258840"/>
            <a:ext cx="826452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6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Пересмотрели участие во всех внешних ТК – межгосударственных, международных и европейск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В общей сложности мы отозвали участие в примерно 60 Т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Подтвердили или запросили участие только в примерно 35 ТК -межгосударственных, международных и европейск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93760" y="236520"/>
            <a:ext cx="885024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7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Для ускорения внедрения прогрессивных методов производства продукции, ведутся работы по анализу и отмене невостребованных, устаревших или нерелевантных стандартов - примерно 2000 отмене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Пример: ГОСТ 7362-78 </a:t>
            </a: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Бумага перфокарточная. Технически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ГОСТ 7428-74 </a:t>
            </a: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Лампы усилительные вакуу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31440" y="360360"/>
            <a:ext cx="826452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7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Также в рамках анализов были выявлены многочисленные случаи действия одновременно двух стандартов ГОСТ разных годов выпу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Считаем что на момент принятия стандарта в новой редакции, предыдущая редакция должна быть отменена </a:t>
            </a: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(кроме очень специфичных и обоснованных случаев)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6880" y="360360"/>
            <a:ext cx="867096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6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Также ведутся работы по идентификации и отмене стандартов пересекающиеся («</a:t>
            </a: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конфликтующие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») с вновь принятыми международными или европейск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Пример</a:t>
            </a:r>
            <a:r>
              <a:rPr b="0" lang="en-US" sz="3600" spc="-1" strike="noStrike">
                <a:solidFill>
                  <a:srgbClr val="677480"/>
                </a:solidFill>
                <a:latin typeface="Lato"/>
              </a:rPr>
              <a:t>: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 </a:t>
            </a:r>
            <a:r>
              <a:rPr b="0" lang="en-US" sz="3600" spc="-1" strike="noStrike">
                <a:solidFill>
                  <a:srgbClr val="677480"/>
                </a:solidFill>
                <a:latin typeface="Lato"/>
              </a:rPr>
              <a:t>ISO 5764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 </a:t>
            </a:r>
            <a:r>
              <a:rPr b="0" lang="en-US" sz="3600" spc="-1" strike="noStrike">
                <a:solidFill>
                  <a:srgbClr val="677480"/>
                </a:solidFill>
                <a:latin typeface="Lato"/>
              </a:rPr>
              <a:t>“</a:t>
            </a: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Молоко. Определение точки замерзания</a:t>
            </a:r>
            <a:r>
              <a:rPr b="0" lang="en-US" sz="3600" spc="-1" strike="noStrike">
                <a:solidFill>
                  <a:srgbClr val="677480"/>
                </a:solidFill>
                <a:latin typeface="Lato"/>
              </a:rPr>
              <a:t>”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ГОСТ 25101-82 </a:t>
            </a:r>
            <a:r>
              <a:rPr b="0" lang="en-US" sz="3600" spc="-1" strike="noStrike">
                <a:solidFill>
                  <a:srgbClr val="677480"/>
                </a:solidFill>
                <a:latin typeface="Lato"/>
              </a:rPr>
              <a:t>“</a:t>
            </a: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Молоко. Метод определения точки замерзания</a:t>
            </a:r>
            <a:r>
              <a:rPr b="0" lang="en-US" sz="3600" spc="-1" strike="noStrike">
                <a:solidFill>
                  <a:srgbClr val="677480"/>
                </a:solidFill>
                <a:latin typeface="Lato"/>
              </a:rPr>
              <a:t>”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 отмен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120" y="654120"/>
            <a:ext cx="826308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Ввели ряд индикаторов для измерения «тела» стандартов и для их изучения в динами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Среди таких индикаторов, к пример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средний «возраст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уровень «интернационализации» 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85280" y="914400"/>
            <a:ext cx="826308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7480"/>
                </a:solidFill>
                <a:latin typeface="Lato"/>
              </a:rPr>
              <a:t>средний «возраст» 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разница между текущим годом и взвешенным средним арифметическим значением годов принятия всех стандарт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hape 196"/>
          <p:cNvSpPr/>
          <p:nvPr/>
        </p:nvSpPr>
        <p:spPr>
          <a:xfrm>
            <a:off x="1008000" y="3772080"/>
            <a:ext cx="75186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715"/>
                </a:solidFill>
                <a:latin typeface="Lato"/>
              </a:rPr>
              <a:t>В Молдове – 13 л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hape 202"/>
          <p:cNvSpPr/>
          <p:nvPr/>
        </p:nvSpPr>
        <p:spPr>
          <a:xfrm>
            <a:off x="0" y="4170240"/>
            <a:ext cx="939960" cy="892440"/>
          </a:xfrm>
          <a:prstGeom prst="rightArrow">
            <a:avLst>
              <a:gd name="adj1" fmla="val 61815"/>
              <a:gd name="adj2" fmla="val 49922"/>
            </a:avLst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9440" y="420840"/>
            <a:ext cx="826308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7480"/>
                </a:solidFill>
                <a:latin typeface="Lato"/>
              </a:rPr>
              <a:t>«уровень интернационализации» 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– доля идентичных международных и европейских стандартов, принятых в качестве национальных, в общем количестве национальных стандарт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hape 196"/>
          <p:cNvSpPr/>
          <p:nvPr/>
        </p:nvSpPr>
        <p:spPr>
          <a:xfrm>
            <a:off x="1008000" y="3772080"/>
            <a:ext cx="75186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715"/>
                </a:solidFill>
                <a:latin typeface="Lato"/>
              </a:rPr>
              <a:t>В Молдове - 61 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hape 202"/>
          <p:cNvSpPr/>
          <p:nvPr/>
        </p:nvSpPr>
        <p:spPr>
          <a:xfrm>
            <a:off x="0" y="4170240"/>
            <a:ext cx="939960" cy="892440"/>
          </a:xfrm>
          <a:prstGeom prst="rightArrow">
            <a:avLst>
              <a:gd name="adj1" fmla="val 61815"/>
              <a:gd name="adj2" fmla="val 49922"/>
            </a:avLst>
          </a:prstGeom>
          <a:solidFill>
            <a:srgbClr val="ff9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80600" y="1639440"/>
            <a:ext cx="8263080" cy="3791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Также мы создали графическую модель визуализации связей (ссылок) между стандартами (</a:t>
            </a:r>
            <a:r>
              <a:rPr b="1" i="1" lang="en-US" sz="3600" spc="-1" strike="noStrike">
                <a:solidFill>
                  <a:srgbClr val="677480"/>
                </a:solidFill>
                <a:latin typeface="Lato"/>
              </a:rPr>
              <a:t>parent</a:t>
            </a:r>
            <a:r>
              <a:rPr b="1" i="1" lang="ru-RU" sz="3600" spc="-1" strike="noStrike">
                <a:solidFill>
                  <a:srgbClr val="677480"/>
                </a:solidFill>
                <a:latin typeface="Lato"/>
              </a:rPr>
              <a:t>-</a:t>
            </a:r>
            <a:r>
              <a:rPr b="1" i="1" lang="en-US" sz="3600" spc="-1" strike="noStrike">
                <a:solidFill>
                  <a:srgbClr val="677480"/>
                </a:solidFill>
                <a:latin typeface="Lato"/>
              </a:rPr>
              <a:t>child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4120" y="936720"/>
            <a:ext cx="818496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2000"/>
          </a:bodyPr>
          <a:p>
            <a:pPr marL="18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7480"/>
                </a:solidFill>
                <a:latin typeface="Lato"/>
              </a:rPr>
              <a:t>Закон Республики Молдова о национальной стандартизации от 04.03.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Гармонизирован и учитывает международные и европейские принципы и правила в области стандартиза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93880" y="27432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-112680" y="-79200"/>
            <a:ext cx="9256680" cy="693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285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082520" y="0"/>
            <a:ext cx="683604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9240" y="1231560"/>
            <a:ext cx="5562720" cy="1546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ecefd"/>
                </a:solidFill>
                <a:latin typeface="Raleway"/>
              </a:rPr>
              <a:t>Спасиб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119240" y="2778120"/>
            <a:ext cx="5562720" cy="1046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Lato"/>
              </a:rPr>
              <a:t>Вопросы</a:t>
            </a:r>
            <a:r>
              <a:rPr b="1" lang="ro-RO" sz="4800" spc="-1" strike="noStrike">
                <a:solidFill>
                  <a:srgbClr val="ffffff"/>
                </a:solidFill>
                <a:latin typeface="Lato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03040" y="530280"/>
            <a:ext cx="894096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7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Организационно-функциональную структуру национальной системы стандартизации составляю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национальный орган по стандартиз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совещательный совет по стандартиз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технические комитеты по стандарт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Отказались от служб стандартизации юридических лиц как элемент Н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37680" y="530280"/>
            <a:ext cx="880596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Технические комитеты по стандартиз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бизнес-сообществ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организации (в том числе научные), деятельность которых связана с работами в области стандартиз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7480"/>
              </a:buClr>
              <a:buFont typeface="Lat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общественные организ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7480"/>
              </a:buClr>
              <a:buFont typeface="Lat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органы исполнительной вла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7480"/>
              </a:buClr>
              <a:buFont typeface="Lat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органы по оценке соответствия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37680" y="1150920"/>
            <a:ext cx="880596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7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Отказались от классификаторов/каталогизации и предварительных стандартов как класс объектов национальной системы стандарт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Также, стандарты организаций больше не элемент национальной системы стандарт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37680" y="1150920"/>
            <a:ext cx="8805960" cy="3790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В настоящее время приняты 26600 молдавских стандарт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Уровень их гармонизации с международными и европейскими стандартами составляет примерно 6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37680" y="721800"/>
            <a:ext cx="8805960" cy="3791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7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Ввели правило </a:t>
            </a:r>
            <a:r>
              <a:rPr b="0" i="1" lang="en-US" sz="3600" spc="-1" strike="noStrike">
                <a:solidFill>
                  <a:srgbClr val="677480"/>
                </a:solidFill>
                <a:latin typeface="Lato"/>
              </a:rPr>
              <a:t>standstill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 – не допускается разработка новых молдавских стандартов на объекты на которые уже опубликованы или находятся в процессе разработки международные, европейские или межгосударственные станда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За год, в среднем разрабатываются 5 новых молдавских стандар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37680" y="721800"/>
            <a:ext cx="8805960" cy="3791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Провели реформу всех национальных Т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 – 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секретариаты всех ТК взял ИС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сбалансированность представл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одно предприятие - один участник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решение на основе консенсу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- нет «доминации» министерств (</a:t>
            </a:r>
            <a:r>
              <a:rPr b="0" i="1" lang="ru-RU" sz="3600" spc="-1" strike="noStrike">
                <a:solidFill>
                  <a:srgbClr val="677480"/>
                </a:solidFill>
                <a:latin typeface="Lato"/>
              </a:rPr>
              <a:t>разграничение сфер техрегулирования и стандартизации</a:t>
            </a: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37680" y="721800"/>
            <a:ext cx="8264520" cy="3791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В результате, половина ТК было расформировано, для оставшихся был проведен перезапуск по новым правилам и критериям, также были созданы новые ТК на новые предметы стандартизац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7480"/>
                </a:solidFill>
                <a:latin typeface="Lato"/>
              </a:rPr>
              <a:t>На данный момент действуют 20 национальных Т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STAN</dc:creator>
  <dc:description/>
  <dc:language>en-US</dc:language>
  <cp:lastModifiedBy>BOSTAN</cp:lastModifiedBy>
  <dcterms:modified xsi:type="dcterms:W3CDTF">2016-10-31T17:29:08Z</dcterms:modified>
  <cp:revision>117</cp:revision>
  <dc:subject/>
  <dc:title>THIS IS YOUR PRESENTATION TITLE</dc:title>
</cp:coreProperties>
</file>